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31F-4B5A-44C1-A7AA-AAA08C75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D22-1DCA-4883-8692-67926F73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D28-8383-45BC-971A-297C7214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BE4-1C61-48B4-B791-B54EA4AC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EC76-AFA0-4ABD-A937-DAEA1EB6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B94B-0C71-41A5-B8D2-44D1BB5C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0E52-1EE6-4497-826F-4BA34937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F310-E894-4FE8-9D6A-0FB7C6A9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290C-5C7C-4A1A-AA51-A2574B86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ABC1-B58B-49FD-8BAA-C041EEDB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D2C8-B8B7-4B50-A7B0-8E5CDF42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17C-9053-4401-8082-BDB54DCF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091B-4E93-4EC6-9322-764D30F6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A33B-9750-4D82-AFB3-7ACB8B7E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1DA5-65CC-4BF9-B226-1EA41EAE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BA09-93EB-40DF-8837-35DDBB4D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D53C-5004-40E2-8A73-D48CF672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C7E3D-9902-4A42-93BE-EB02AA3E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E8FB-4618-4C24-BAE4-4D1331FA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3DA5-72FF-4101-9617-5CBE9DFA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629F-D309-462B-95BB-4FC8E437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576E-1652-4B8D-893E-6F59DEB6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9F1-B538-4A14-93C9-086FB900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BE3C-A686-4DA7-BD74-9D5A0865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4B50B-6885-4E0A-84B0-8A03E477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25EFB-E9E8-4753-8F1B-79F56AAC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92D17-953E-4536-B642-91C3D9DF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DE588-D223-4CDC-A974-A46EA06C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85E91-6C9F-4961-81EF-3A28968D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C4D3E-5A93-4E33-9821-B7ABE6A9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E450-E344-4B66-9CDE-84B97701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27958-7F34-4318-BD39-36073EE3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2FE36-69C2-4862-A284-3542D76D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036-3D89-47A0-87AC-CF4D0CD8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B7E19-F482-4958-B8F6-3D41851F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EB8B1-FD3F-4705-A23D-84173FED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96872-41A1-4266-B042-D4830A34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75350-84A2-4EF0-89FC-CADA4870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9A2A6-EF2B-48C1-AF57-6BACA445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4937-2A0E-4637-A084-242ECF40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F4D9-49F7-4634-B577-517B1D3B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B801C-DFD5-49DB-986C-D4BE0D9F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20E5E-E841-453C-BB99-BEFD1F8B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BBA4F-8D1E-4170-9F6A-BF0A941F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FA2-9B74-4A82-8C3B-B1F265CD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0ECEE-3348-4A72-82FA-7987C706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EB021-2322-496D-9EF7-8D583419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46F93-13B7-4344-AE54-6F1BC5F5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38F94-A62E-435A-A35E-2CAE711D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D82AD-C394-45FE-B3CC-D874C5FF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4E97B-0E23-417E-BF35-29B85CF1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D3C97-C880-449F-B5A1-E13B6B29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5A1D-C187-48DA-9EC0-10891233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200B5-EF08-44D8-BD38-31EF1920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CA48A-E972-4DF6-90FB-4E1D79C9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187-1735-4B40-AE7C-C2C1590B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8B12B-20DA-46A5-97D9-0AB63220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995AD-3A0D-4667-8631-8C8543FF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10F1E-8BEE-46C7-A378-81FA0367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38DB6-6204-4B35-8063-642820B3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59394-D896-436A-BFAB-1D93FFF0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B7816-A2C6-4700-BD10-F773BE6D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9303E-D620-4ABF-BD9B-DA540681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EECA4-7EAF-4453-AE26-13EA18A3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3A1FF-5109-4133-9AB7-986C1DF7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4382B-68F2-4483-AD89-8276CCF9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7B1-5895-4406-A6C6-4FB22EEB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B0290-E511-42DA-BE43-E851DED5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AB50A-4CDA-4688-833B-BC71F01E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E83D2-F080-4EE7-8BA8-2FB20A42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A43-47BB-40F8-AE35-4C4D1263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FB2-E90A-499F-8F2B-010504FD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54B6-B77B-427A-9442-B3872CBC378B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39B1-C148-4339-B3FA-909A8FED73BD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49DD-CBF0-4678-9C65-60F41480F8C6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549F-9FDE-44E1-AB2A-676D777D7722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58EE-FCD1-44EB-89B3-F670D6A10DC1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0A3C-A320-426B-B121-88B9F8CA37E6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añol 2 Capítulo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What is a REFLEXIVE VERB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the subject (performer of the action) and the object (the receiver of that action) ARE THE SAME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English—the object of a reflexive verb is usually –myself, yourself, himself, herself, itself, ourselves or themsel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lexive verbs NEED a reflexive pronou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are the reflexive pronouns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sotro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n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los/Ella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/Ella/Ud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nouns are placed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N FRONT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 a conjugated verb OR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ttache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an infini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veo.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se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myself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quiero ver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 to see my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iero ver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ome reminder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reflexives are stem-changing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involve the mentioning of personal hygenine. One must use el/la/los/las BEFORE the body par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cepill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l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brush my ha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lava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l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ash your ha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verbs can be reflexives and non-reflex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6480" indent="-234000">
              <a:spcBef>
                <a:spcPts val="499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can scratch my ca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an washes clothes on Sun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66480" indent="-234000">
              <a:spcBef>
                <a:spcPts val="499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can scratch myself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an washes his ha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380520"/>
            <a:ext cx="3657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sarse c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get marr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amorarse 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fall in love wi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fad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become ang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quivoc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make a mistak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du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gradu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rch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march aw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67080" y="380520"/>
            <a:ext cx="3657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ej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compl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rt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beha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lvidarse 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forg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e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gobble 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go aw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C:\Documents and Settings\Administrator\Local Settings\Temporary Internet Files\Content.IE5\TUAJ1N5X\MCj02856140000[1].wmf"/>
          <p:cNvPicPr/>
          <p:nvPr/>
        </p:nvPicPr>
        <p:blipFill>
          <a:blip r:embed="rId1"/>
          <a:stretch/>
        </p:blipFill>
        <p:spPr>
          <a:xfrm>
            <a:off x="6400800" y="3581280"/>
            <a:ext cx="24382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Traduzca en español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29492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-Ellos (levantarse) a las siete todos los día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-El (llamarse) Marco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-Yo (llamarse) Patrici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-¿A qué hora (levantarse) Patricia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-Ella (quedarse) en casa todas de las noch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-Susana siempre (peinarse) con mucho cuidad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7-Yo nunca (acostarse) tempran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6840" y="914040"/>
            <a:ext cx="7467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-Los niños (bañarse) en el rí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-Nosotros (ponerse) nuestros abrigos antes de sali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-Ellos siempre (divertirse) a la fiest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1-Tú (lavarse) antes de com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2-Adela (quejarse) demasiad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C:\Documents and Settings\Administrator\Local Settings\Temporary Internet Files\Content.IE5\I669Q1CW\MCj04382050000[1].wmf"/>
          <p:cNvPicPr/>
          <p:nvPr/>
        </p:nvPicPr>
        <p:blipFill>
          <a:blip r:embed="rId1"/>
          <a:stretch/>
        </p:blipFill>
        <p:spPr>
          <a:xfrm>
            <a:off x="3581280" y="4648320"/>
            <a:ext cx="1825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8:34:35Z</dcterms:created>
  <dc:creator> </dc:creator>
  <dc:description/>
  <dc:language>en-US</dc:language>
  <cp:lastModifiedBy> </cp:lastModifiedBy>
  <dcterms:modified xsi:type="dcterms:W3CDTF">2009-10-01T20:22:08Z</dcterms:modified>
  <cp:revision>6</cp:revision>
  <dc:subject/>
  <dc:title>Reflexive verbs</dc:title>
</cp:coreProperties>
</file>